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5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5782-8073-49D7-AF13-FDF47E09D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99A8-CD5C-4925-BD20-1F9427096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D630-791F-4347-AB2D-DDF1F2EB9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E5FB-83BA-46DE-87F8-E975050D7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F66CF-4D50-4044-A1B0-EEEA13B9B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4CD88-5117-4447-B5DC-21EA197CD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3F43E-3C4C-4DA0-9E9C-981971687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3BACC-4C2F-4CAD-B114-08D0B5A9D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E1201-1B4C-499E-8AA9-48ED51FFF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2DF66-BACC-42C5-8DE1-0A9687433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239CF-9C74-465B-BEEC-65D5AAC76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2705-AC30-4C35-B001-CC1918BC0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2E682-2998-430B-86F3-CBD306CB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B10AF-8BB0-46E3-9743-105FCB51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C7FE8-7756-41DA-9612-AF7468FEC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E4F94-A8B1-489F-9FB6-923B0D617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F0F92-6AC6-4EEC-9941-81516B45D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13FB0-14B0-4D33-B1C3-4A53B8D85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EE449-7F1F-4C48-83B2-4BC751B60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A4C18-020D-434E-8C63-4DD4AF02A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D3732-896E-45B0-8461-DD5386F67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7830B-6194-4944-BBB4-626748B44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F428-BF17-436E-BB2D-0B69EB543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10222-FC63-4F5B-84D2-C8F770D9A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EF5D9-7073-4FCC-89C7-3E262906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0D6FA-29A7-4AAA-BC5B-A24D2741D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012E1-A5C5-4470-A259-2193CCF72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D8FC3-076E-483D-9843-D4457E464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CCAF4-F4D7-42AF-A8BC-46D4871EB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ACEE9-F6DB-44AA-98EA-E30AD60E2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F8E6F-6221-44A9-A986-4C08AC1BD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FADF4-C6F9-424E-8ECC-FDED6F359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509BC-2817-479D-9C36-651DA316D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D712-2E24-43BB-AB73-19338EEC5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3F8AA-348E-4F8A-8A6D-571EC27C9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8BCE0-1246-4665-9832-6235B66A1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223CF-DD82-4FCD-9BD9-D440BA865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7CBE2-F852-4CB9-8625-19DA643A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A9F83-D709-4500-8B00-A47F46BC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2B300-4FE2-44A7-8E97-539A7B98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B0E82-DD2A-4BCE-81F0-761D3BD3D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BDEF7-8993-4C28-93B7-CDB0E432C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B790E-DCF5-4119-B10B-145DE0217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343636-B037-4C60-8423-40570E192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8CD4-2F35-495B-B599-C76FE9043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4D54A-6937-4244-9CC9-26A74EB2B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96CA5-F3B7-4F6A-838F-B00448A58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F889A-DEA5-4575-ADF1-716615AC0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5AFA55-2815-45CA-983C-8200044F3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90E855-883D-4EB7-8A59-E0FE98BE7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61E807-01CB-40BC-872E-D89E1E9E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83C0F-D8D7-423B-8EC9-BC960622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49BF1-05D0-42F1-9E31-095B90BB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B606A-2B10-4C6C-B0E0-10888E3AE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2C1DCE-3C25-4FC1-9B52-F3E7D7305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3205-61F3-4823-92A3-676441549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384C7B-F6DB-4F36-AC50-0BA20C0BC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7EA2-A9F7-412F-AE19-99F682681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4FF0-B8C4-4223-9CEA-1316BCB2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5C2F-452C-4190-BCEA-3076183BD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AFC46-DEA9-43A9-8748-3FE4B200F6CB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DD7FF-19C1-4AE7-AAAC-E3ADC4D8DEA4}" type="slidenum">
              <a:rPr b="0" lang="en-U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D17D0-A39F-4681-B812-97208E91075F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A7455-357B-4439-8664-0D55EB8E6DC6}" type="slidenum">
              <a:rPr b="0" lang="en-US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BB68F-4B0B-4528-AE30-2DA723ECD639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edf.kg.ac.yu/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4"/>
          <p:cNvSpPr/>
          <p:nvPr/>
        </p:nvSpPr>
        <p:spPr>
          <a:xfrm>
            <a:off x="2045520" y="500040"/>
            <a:ext cx="470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b13f9a"/>
                </a:solidFill>
                <a:latin typeface="Times New Roman"/>
              </a:rPr>
              <a:t>Факултет медицинских наука у Крагујевц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b13f9a"/>
                </a:solidFill>
                <a:latin typeface="Times New Roman"/>
              </a:rPr>
              <a:t>Интегрисане академске студије стоматолог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5" descr="m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1080" y="0"/>
            <a:ext cx="1042920" cy="140508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6"/>
          <p:cNvSpPr/>
          <p:nvPr/>
        </p:nvSpPr>
        <p:spPr>
          <a:xfrm>
            <a:off x="324000" y="1752480"/>
            <a:ext cx="83818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13f9a"/>
                </a:solidFill>
                <a:latin typeface="Times New Roman"/>
              </a:rPr>
              <a:t>МОДУЛ </a:t>
            </a:r>
            <a:r>
              <a:rPr b="1" lang="sr-CS" sz="2400" spc="-1" strike="noStrike">
                <a:solidFill>
                  <a:srgbClr val="b13f9a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b13f9a"/>
                </a:solidFill>
                <a:latin typeface="Times New Roman"/>
              </a:rPr>
              <a:t>:</a:t>
            </a:r>
            <a:r>
              <a:rPr b="1" lang="ru-RU" sz="2800" spc="-1" strike="noStrike">
                <a:solidFill>
                  <a:srgbClr val="b13f9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b13f9a"/>
                </a:solidFill>
                <a:latin typeface="Times New Roman"/>
              </a:rPr>
              <a:t>Вештина комуникације у здравст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1835280" y="3124080"/>
            <a:ext cx="5545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13f9a"/>
                </a:solidFill>
                <a:latin typeface="Times New Roman"/>
              </a:rPr>
              <a:t>Вештина комуникације са особама са менталним поремећајим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13f9a"/>
                </a:solidFill>
                <a:latin typeface="Times New Roman"/>
              </a:rPr>
              <a:t>Комуникација са геријатријском популациј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8"/>
          <p:cNvSpPr/>
          <p:nvPr/>
        </p:nvSpPr>
        <p:spPr>
          <a:xfrm>
            <a:off x="3747240" y="5997600"/>
            <a:ext cx="421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b13f9a"/>
                </a:solidFill>
                <a:latin typeface="Times New Roman"/>
              </a:rPr>
              <a:t>Проф. др Драгана Игњатовић Ристи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Title 1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Студент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може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ослушати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рад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срца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или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дисање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код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свог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колеге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а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то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рименити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на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ацијенту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.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Учење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сихијатријске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ропедевтике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не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тече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на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исти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начин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Из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тог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разлога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може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да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омогне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осматрање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интеракције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oll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la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y)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ре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него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што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се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крене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у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разговор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са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ацијентом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Снимање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интервјуа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међу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студентима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и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анализа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истог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може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бити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добра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вежба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у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учењу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комуникацијских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вештина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Title 1" descr=""/>
          <p:cNvPicPr/>
          <p:nvPr/>
        </p:nvPicPr>
        <p:blipFill>
          <a:blip r:embed="rId1"/>
          <a:stretch/>
        </p:blipFill>
        <p:spPr>
          <a:xfrm>
            <a:off x="285840" y="79200"/>
            <a:ext cx="7419960" cy="138924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Н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осећају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увек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игурно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док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ричају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сихијатријским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ацијентим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-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н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у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интелектуалном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већ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виш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у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базичном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осећају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игурност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Изглед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сихијатријског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ацијент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(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бескућник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алкохолисан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доведен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улиц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у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Ургентн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центар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)...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нем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комуникациј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...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 Општ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маргинализациј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сихијатријских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ацијенат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..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Title 1" descr=""/>
          <p:cNvPicPr/>
          <p:nvPr/>
        </p:nvPicPr>
        <p:blipFill>
          <a:blip r:embed="rId1"/>
          <a:stretch/>
        </p:blipFill>
        <p:spPr>
          <a:xfrm>
            <a:off x="285840" y="79200"/>
            <a:ext cx="7419960" cy="138924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rebuchet MS"/>
              </a:rPr>
              <a:t>Појава</a:t>
            </a:r>
            <a:r>
              <a:rPr b="0" lang="sr-Latn-R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rebuchet MS"/>
              </a:rPr>
              <a:t>секундарних</a:t>
            </a:r>
            <a:r>
              <a:rPr b="0" lang="sr-Latn-R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rebuchet MS"/>
              </a:rPr>
              <a:t>менталних</a:t>
            </a:r>
            <a:r>
              <a:rPr b="0" lang="sr-Latn-R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rebuchet MS"/>
              </a:rPr>
              <a:t>симптома</a:t>
            </a:r>
            <a:r>
              <a:rPr b="0" lang="sr-Latn-R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rebuchet MS"/>
              </a:rPr>
              <a:t>код</a:t>
            </a:r>
            <a:r>
              <a:rPr b="0" lang="sr-Latn-R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rebuchet MS"/>
              </a:rPr>
              <a:t>пацијента који болују од соматских болести</a:t>
            </a:r>
            <a:r>
              <a:rPr b="0" lang="sr-Latn-RS" sz="20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Trebuchet MS"/>
              </a:rPr>
              <a:t>врло</a:t>
            </a:r>
            <a:r>
              <a:rPr b="0" lang="sr-Latn-R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rebuchet MS"/>
              </a:rPr>
              <a:t>брзо</a:t>
            </a:r>
            <a:r>
              <a:rPr b="0" lang="sr-Latn-R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rebuchet MS"/>
              </a:rPr>
              <a:t>укључује</a:t>
            </a:r>
            <a:r>
              <a:rPr b="0" lang="sr-Latn-R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rebuchet MS"/>
              </a:rPr>
              <a:t>позивање</a:t>
            </a:r>
            <a:r>
              <a:rPr b="0" lang="sr-Latn-R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rebuchet MS"/>
              </a:rPr>
              <a:t>психијатра</a:t>
            </a:r>
            <a:r>
              <a:rPr b="0" lang="sr-Latn-RS" sz="20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Trebuchet MS"/>
              </a:rPr>
              <a:t>студенти</a:t>
            </a:r>
            <a:r>
              <a:rPr b="0" lang="sr-Latn-R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rebuchet MS"/>
              </a:rPr>
              <a:t>се</a:t>
            </a:r>
            <a:r>
              <a:rPr b="0" lang="sr-Latn-RS" sz="2000" spc="-1" strike="noStrike">
                <a:solidFill>
                  <a:srgbClr val="000000"/>
                </a:solidFill>
                <a:latin typeface="Trebuchet MS"/>
              </a:rPr>
              <a:t> “</a:t>
            </a:r>
            <a:r>
              <a:rPr b="0" lang="sr-RS" sz="2000" spc="-1" strike="noStrike">
                <a:solidFill>
                  <a:srgbClr val="000000"/>
                </a:solidFill>
                <a:latin typeface="Trebuchet MS"/>
              </a:rPr>
              <a:t>склањају</a:t>
            </a:r>
            <a:r>
              <a:rPr b="0" lang="sr-Latn-RS" sz="2000" spc="-1" strike="noStrike">
                <a:solidFill>
                  <a:srgbClr val="000000"/>
                </a:solidFill>
                <a:latin typeface="Trebuchet MS"/>
              </a:rPr>
              <a:t>” </a:t>
            </a:r>
            <a:r>
              <a:rPr b="0" lang="sr-RS" sz="2000" spc="-1" strike="noStrike">
                <a:solidFill>
                  <a:srgbClr val="000000"/>
                </a:solidFill>
                <a:latin typeface="Trebuchet MS"/>
              </a:rPr>
              <a:t>од</a:t>
            </a:r>
            <a:r>
              <a:rPr b="0" lang="sr-Latn-R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rebuchet MS"/>
              </a:rPr>
              <a:t>таквог</a:t>
            </a:r>
            <a:r>
              <a:rPr b="0" lang="sr-Latn-R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rebuchet MS"/>
              </a:rPr>
              <a:t>пацијента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rebuchet MS"/>
              </a:rPr>
              <a:t>Не</a:t>
            </a:r>
            <a:r>
              <a:rPr b="0" lang="sr-Latn-R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rebuchet MS"/>
              </a:rPr>
              <a:t>обраћа</a:t>
            </a:r>
            <a:r>
              <a:rPr b="0" lang="sr-Latn-R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rebuchet MS"/>
              </a:rPr>
              <a:t>се</a:t>
            </a:r>
            <a:r>
              <a:rPr b="0" lang="sr-Latn-R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rebuchet MS"/>
              </a:rPr>
              <a:t>довољно</a:t>
            </a:r>
            <a:r>
              <a:rPr b="0" lang="sr-Latn-R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rebuchet MS"/>
              </a:rPr>
              <a:t>пажње</a:t>
            </a:r>
            <a:r>
              <a:rPr b="0" lang="sr-Latn-R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rebuchet MS"/>
              </a:rPr>
              <a:t>повратној</a:t>
            </a:r>
            <a:r>
              <a:rPr b="0" lang="sr-Latn-R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rebuchet MS"/>
              </a:rPr>
              <a:t>информацији</a:t>
            </a:r>
            <a:r>
              <a:rPr b="0" lang="sr-Latn-R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rebuchet MS"/>
              </a:rPr>
              <a:t>пацијента-</a:t>
            </a:r>
            <a:r>
              <a:rPr b="0" lang="sr-Latn-R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rebuchet MS"/>
              </a:rPr>
              <a:t>како</a:t>
            </a:r>
            <a:r>
              <a:rPr b="0" lang="sr-Latn-R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rebuchet MS"/>
              </a:rPr>
              <a:t>он</a:t>
            </a:r>
            <a:r>
              <a:rPr b="0" lang="sr-Latn-R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rebuchet MS"/>
              </a:rPr>
              <a:t>види</a:t>
            </a:r>
            <a:r>
              <a:rPr b="0" lang="sr-Latn-R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rebuchet MS"/>
              </a:rPr>
              <a:t>интервју</a:t>
            </a:r>
            <a:r>
              <a:rPr b="0" lang="sr-Latn-R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rebuchet MS"/>
              </a:rPr>
              <a:t>у</a:t>
            </a:r>
            <a:r>
              <a:rPr b="0" lang="sr-Latn-R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rebuchet MS"/>
              </a:rPr>
              <a:t>коме</a:t>
            </a:r>
            <a:r>
              <a:rPr b="0" lang="sr-Latn-R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rebuchet MS"/>
              </a:rPr>
              <a:t>је</a:t>
            </a:r>
            <a:r>
              <a:rPr b="0" lang="sr-Latn-R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rebuchet MS"/>
              </a:rPr>
              <a:t>учествовао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rebuchet MS"/>
              </a:rPr>
              <a:t>Не</a:t>
            </a:r>
            <a:r>
              <a:rPr b="0" lang="sr-Latn-R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rebuchet MS"/>
              </a:rPr>
              <a:t>ради</a:t>
            </a:r>
            <a:r>
              <a:rPr b="0" lang="sr-Latn-R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rebuchet MS"/>
              </a:rPr>
              <a:t>се</a:t>
            </a:r>
            <a:r>
              <a:rPr b="0" lang="sr-Latn-R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rebuchet MS"/>
              </a:rPr>
              <a:t>на</a:t>
            </a:r>
            <a:r>
              <a:rPr b="0" lang="sr-Latn-R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rebuchet MS"/>
              </a:rPr>
              <a:t>техникама</a:t>
            </a:r>
            <a:r>
              <a:rPr b="0" lang="sr-Latn-R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rebuchet MS"/>
              </a:rPr>
              <a:t>успешне</a:t>
            </a:r>
            <a:r>
              <a:rPr b="0" lang="sr-Latn-R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rebuchet MS"/>
              </a:rPr>
              <a:t>комуникације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rebuchet MS"/>
              </a:rPr>
              <a:t>Не</a:t>
            </a:r>
            <a:r>
              <a:rPr b="0" lang="sr-Latn-R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rebuchet MS"/>
              </a:rPr>
              <a:t>говори</a:t>
            </a:r>
            <a:r>
              <a:rPr b="0" lang="sr-Latn-R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rebuchet MS"/>
              </a:rPr>
              <a:t>се</a:t>
            </a:r>
            <a:r>
              <a:rPr b="0" lang="sr-Latn-R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rebuchet MS"/>
              </a:rPr>
              <a:t>довољно</a:t>
            </a:r>
            <a:r>
              <a:rPr b="0" lang="sr-Latn-R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rebuchet MS"/>
              </a:rPr>
              <a:t>о</a:t>
            </a:r>
            <a:r>
              <a:rPr b="0" lang="sr-Latn-R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rebuchet MS"/>
              </a:rPr>
              <a:t>бољим</a:t>
            </a:r>
            <a:r>
              <a:rPr b="0" lang="sr-Latn-R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rebuchet MS"/>
              </a:rPr>
              <a:t>терапијским</a:t>
            </a:r>
            <a:r>
              <a:rPr b="0" lang="sr-Latn-R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rebuchet MS"/>
              </a:rPr>
              <a:t>могућностима</a:t>
            </a:r>
            <a:r>
              <a:rPr b="0" lang="sr-Latn-R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rebuchet MS"/>
              </a:rPr>
              <a:t>менталних</a:t>
            </a:r>
            <a:r>
              <a:rPr b="0" lang="sr-Latn-R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rebuchet MS"/>
              </a:rPr>
              <a:t>поремећаја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rebuchet MS"/>
              </a:rPr>
              <a:t>Општа</a:t>
            </a:r>
            <a:r>
              <a:rPr b="0" lang="sr-Latn-R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rebuchet MS"/>
              </a:rPr>
              <a:t>маргинализација</a:t>
            </a:r>
            <a:r>
              <a:rPr b="0" lang="sr-Latn-R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rebuchet MS"/>
              </a:rPr>
              <a:t>психијатријских</a:t>
            </a:r>
            <a:r>
              <a:rPr b="0" lang="sr-Latn-R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rebuchet MS"/>
              </a:rPr>
              <a:t>пацијената</a:t>
            </a:r>
            <a:r>
              <a:rPr b="0" lang="sr-Latn-RS" sz="2000" spc="-1" strike="noStrike">
                <a:solidFill>
                  <a:srgbClr val="000000"/>
                </a:solidFill>
                <a:latin typeface="Trebuchet M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Title 1" descr=""/>
          <p:cNvPicPr/>
          <p:nvPr/>
        </p:nvPicPr>
        <p:blipFill>
          <a:blip r:embed="rId1"/>
          <a:stretch/>
        </p:blipFill>
        <p:spPr>
          <a:xfrm>
            <a:off x="212760" y="165240"/>
            <a:ext cx="7493040" cy="13032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ацијент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у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маничној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фаз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болест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имају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лошу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ажњу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због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тог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тешко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рат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ложен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инструкциј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Зато, комуникациј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треб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д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буд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јасн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језик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једноставан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одсећањем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ацијент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д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онов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оно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што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ј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важно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како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б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бољ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запамтио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одсетниц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о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важним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детаљим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ако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ј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ацијент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н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одељењу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такођ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могу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д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омогну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.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Title 1" descr=""/>
          <p:cNvPicPr/>
          <p:nvPr/>
        </p:nvPicPr>
        <p:blipFill>
          <a:blip r:embed="rId1"/>
          <a:stretch/>
        </p:blipFill>
        <p:spPr>
          <a:xfrm>
            <a:off x="212760" y="165240"/>
            <a:ext cx="7493040" cy="13032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Успоставит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везу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ацијентом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редставит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Будит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љубазни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Како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год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д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ј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ацијент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узбуђен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осетић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ако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т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ту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тварно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з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њег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д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вам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мож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вероват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Бит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рисутан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знач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д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вас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ацијент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заист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интересуј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.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То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и маничном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депресивном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ацијенту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једнако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знач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иако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он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имају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различит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отреб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Title 1" descr=""/>
          <p:cNvPicPr/>
          <p:nvPr/>
        </p:nvPicPr>
        <p:blipFill>
          <a:blip r:embed="rId1"/>
          <a:stretch/>
        </p:blipFill>
        <p:spPr>
          <a:xfrm>
            <a:off x="212760" y="165240"/>
            <a:ext cx="7493040" cy="13032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Својим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оступцима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окажите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да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је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ацијент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(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маничан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или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депресиван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)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важна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особа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и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да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има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наде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-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супротно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од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конфузности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безвредности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безнађа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и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есимизма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у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коме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се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ацијент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налази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.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Ако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то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обуди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жељу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ацијента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да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комуницира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охрабрите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га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да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настави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оставите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разумна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ограничења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за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маничног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ацијента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и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јасно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дефинишите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очекивања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од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депресивног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ацијнета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уз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обавезно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уважавање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ацијенат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Title 1" descr=""/>
          <p:cNvPicPr/>
          <p:nvPr/>
        </p:nvPicPr>
        <p:blipFill>
          <a:blip r:embed="rId1"/>
          <a:stretch/>
        </p:blipFill>
        <p:spPr>
          <a:xfrm>
            <a:off x="212760" y="165240"/>
            <a:ext cx="7493040" cy="13032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Будит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600" spc="-1" strike="noStrike">
                <a:solidFill>
                  <a:srgbClr val="a34b73"/>
                </a:solidFill>
                <a:latin typeface="Trebuchet MS"/>
              </a:rPr>
              <a:t>аутентични</a:t>
            </a:r>
            <a:r>
              <a:rPr b="1" lang="sr-Latn-RS" sz="2600" spc="-1" strike="noStrike">
                <a:solidFill>
                  <a:srgbClr val="a34b73"/>
                </a:solidFill>
                <a:latin typeface="Trebuchet MS"/>
              </a:rPr>
              <a:t>, </a:t>
            </a:r>
            <a:r>
              <a:rPr b="1" lang="sr-RS" sz="2600" spc="-1" strike="noStrike">
                <a:solidFill>
                  <a:srgbClr val="a34b73"/>
                </a:solidFill>
                <a:latin typeface="Trebuchet MS"/>
              </a:rPr>
              <a:t>покажите</a:t>
            </a:r>
            <a:r>
              <a:rPr b="1" lang="sr-Latn-RS" sz="2600" spc="-1" strike="noStrike">
                <a:solidFill>
                  <a:srgbClr val="a34b73"/>
                </a:solidFill>
                <a:latin typeface="Trebuchet MS"/>
              </a:rPr>
              <a:t> </a:t>
            </a:r>
            <a:r>
              <a:rPr b="1" lang="sr-RS" sz="2600" spc="-1" strike="noStrike">
                <a:solidFill>
                  <a:srgbClr val="a34b73"/>
                </a:solidFill>
                <a:latin typeface="Trebuchet MS"/>
              </a:rPr>
              <a:t>емпатију</a:t>
            </a:r>
            <a:r>
              <a:rPr b="1" lang="sr-Latn-RS" sz="2600" spc="-1" strike="noStrike">
                <a:solidFill>
                  <a:srgbClr val="a34b73"/>
                </a:solidFill>
                <a:latin typeface="Trebuchet MS"/>
              </a:rPr>
              <a:t>, </a:t>
            </a:r>
            <a:r>
              <a:rPr b="1" lang="sr-RS" sz="2600" spc="-1" strike="noStrike">
                <a:solidFill>
                  <a:srgbClr val="a34b73"/>
                </a:solidFill>
                <a:latin typeface="Trebuchet MS"/>
              </a:rPr>
              <a:t>позитивно</a:t>
            </a:r>
            <a:r>
              <a:rPr b="1" lang="sr-Latn-RS" sz="2600" spc="-1" strike="noStrike">
                <a:solidFill>
                  <a:srgbClr val="a34b73"/>
                </a:solidFill>
                <a:latin typeface="Trebuchet MS"/>
              </a:rPr>
              <a:t> </a:t>
            </a:r>
            <a:r>
              <a:rPr b="1" lang="sr-RS" sz="2600" spc="-1" strike="noStrike">
                <a:solidFill>
                  <a:srgbClr val="a34b73"/>
                </a:solidFill>
                <a:latin typeface="Trebuchet MS"/>
              </a:rPr>
              <a:t>охрабривање</a:t>
            </a:r>
            <a:r>
              <a:rPr b="1" lang="sr-Latn-RS" sz="2600" spc="-1" strike="noStrike">
                <a:solidFill>
                  <a:srgbClr val="a34b73"/>
                </a:solidFill>
                <a:latin typeface="Trebuchet MS"/>
              </a:rPr>
              <a:t> </a:t>
            </a:r>
            <a:r>
              <a:rPr b="1" lang="sr-RS" sz="2600" spc="-1" strike="noStrike">
                <a:solidFill>
                  <a:srgbClr val="a34b73"/>
                </a:solidFill>
                <a:latin typeface="Trebuchet MS"/>
              </a:rPr>
              <a:t>и</a:t>
            </a:r>
            <a:r>
              <a:rPr b="1" lang="sr-Latn-RS" sz="2600" spc="-1" strike="noStrike">
                <a:solidFill>
                  <a:srgbClr val="a34b73"/>
                </a:solidFill>
                <a:latin typeface="Trebuchet MS"/>
              </a:rPr>
              <a:t> </a:t>
            </a:r>
            <a:r>
              <a:rPr b="1" lang="sr-RS" sz="2600" spc="-1" strike="noStrike">
                <a:solidFill>
                  <a:srgbClr val="a34b73"/>
                </a:solidFill>
                <a:latin typeface="Trebuchet MS"/>
              </a:rPr>
              <a:t>топлину</a:t>
            </a:r>
            <a:r>
              <a:rPr b="1" lang="sr-Latn-RS" sz="2600" spc="-1" strike="noStrike">
                <a:solidFill>
                  <a:srgbClr val="a34b73"/>
                </a:solidFill>
                <a:latin typeface="Trebuchet MS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ek to provide the basic human needs identified by Maslow (1968): life/survival, safety/security, belonging/affection, respect/self-respect, and self-actualizati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Ефиксана комуникација са схизофреним пацијентом је посебно важна зато што се они тако лако преплаве стимулусима из спољашње средин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Добра комуникација може значајно допринети да пацијент и његова породица постану успешни у свакодневним активностима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Добра комуникација укључује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1. Знати КАДА комуницират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2. Знати О ЧЕМУ комуницирати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3. Знати КАКО комуницирати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Title 1" descr=""/>
          <p:cNvPicPr/>
          <p:nvPr/>
        </p:nvPicPr>
        <p:blipFill>
          <a:blip r:embed="rId1"/>
          <a:stretch/>
        </p:blipFill>
        <p:spPr>
          <a:xfrm>
            <a:off x="201600" y="317520"/>
            <a:ext cx="7504200" cy="11937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Не дискутовати нешто важно са овим пацијентима када сте/су љути или узнемирен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Тада је тешко јасно размишљати, тешко је добро слушати и фокусирати се на конструктивно решењ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Прво се треба смирити, па разговарат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000000"/>
                </a:solidFill>
                <a:latin typeface="Trebuchet MS"/>
              </a:rPr>
              <a:t>Комуникација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 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је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роцес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размене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информација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реко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договореног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истема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 </a:t>
            </a:r>
            <a:r>
              <a:rPr b="1" lang="sr-RS" sz="2600" spc="-1" strike="noStrike">
                <a:solidFill>
                  <a:srgbClr val="a34b73"/>
                </a:solidFill>
                <a:latin typeface="Trebuchet MS"/>
              </a:rPr>
              <a:t>знакова</a:t>
            </a:r>
            <a:r>
              <a:rPr b="1" lang="sr-Latn-RS" sz="2600" spc="-1" strike="noStrike">
                <a:solidFill>
                  <a:srgbClr val="a34b73"/>
                </a:solidFill>
                <a:latin typeface="Trebuchet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Комуникација- </a:t>
            </a:r>
            <a:r>
              <a:rPr b="1" lang="en-US" sz="2600" spc="-1" strike="noStrike">
                <a:solidFill>
                  <a:srgbClr val="a34b73"/>
                </a:solidFill>
                <a:latin typeface="Trebuchet MS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главне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димензије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: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адржај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форма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и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циљ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Заједно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адржај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и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форм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комуникације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креирају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i="1" lang="sr-RS" sz="2600" spc="-1" strike="noStrike">
                <a:solidFill>
                  <a:srgbClr val="a34b73"/>
                </a:solidFill>
                <a:latin typeface="Trebuchet MS"/>
              </a:rPr>
              <a:t>поруке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које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е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шаљу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а неким циљем.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Title 1" descr=""/>
          <p:cNvPicPr/>
          <p:nvPr/>
        </p:nvPicPr>
        <p:blipFill>
          <a:blip r:embed="rId1"/>
          <a:stretch/>
        </p:blipFill>
        <p:spPr>
          <a:xfrm>
            <a:off x="201600" y="317520"/>
            <a:ext cx="7504200" cy="11937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Изабрати ЈЕДНУ важну ствари из мноштва оних које стоје пред пацијентом и породицом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r ex., say, "John, please stop playing your radio so loudly after 10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.m." Don't say, "John, you're too noisy at night."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Title 1" descr=""/>
          <p:cNvPicPr/>
          <p:nvPr/>
        </p:nvPicPr>
        <p:blipFill>
          <a:blip r:embed="rId1"/>
          <a:stretch/>
        </p:blipFill>
        <p:spPr>
          <a:xfrm>
            <a:off x="201600" y="317520"/>
            <a:ext cx="7504200" cy="119376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Н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вербалном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нивоу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нек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в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комуникациј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буд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једноставн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кратк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пецифичн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Неверблан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комуникациј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одразумев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тон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глас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оложај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тел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контакт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очим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израз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лиц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физичк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удаљеност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између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особ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у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комуникациј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b13f9a"/>
                </a:solidFill>
                <a:latin typeface="Trebuchet MS"/>
              </a:rPr>
              <a:t>Неверб</a:t>
            </a:r>
            <a:r>
              <a:rPr b="0" lang="sr-Latn-RS" sz="2600" spc="-1" strike="noStrike">
                <a:solidFill>
                  <a:srgbClr val="b13f9a"/>
                </a:solidFill>
                <a:latin typeface="Trebuchet MS"/>
              </a:rPr>
              <a:t>a</a:t>
            </a:r>
            <a:r>
              <a:rPr b="0" lang="sr-RS" sz="2600" spc="-1" strike="noStrike">
                <a:solidFill>
                  <a:srgbClr val="b13f9a"/>
                </a:solidFill>
                <a:latin typeface="Trebuchet MS"/>
              </a:rPr>
              <a:t>лана</a:t>
            </a:r>
            <a:r>
              <a:rPr b="0" lang="sr-Latn-RS" sz="2600" spc="-1" strike="noStrike">
                <a:solidFill>
                  <a:srgbClr val="b13f9a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b13f9a"/>
                </a:solidFill>
                <a:latin typeface="Trebuchet MS"/>
              </a:rPr>
              <a:t>порука</a:t>
            </a:r>
            <a:r>
              <a:rPr b="0" lang="sr-Latn-RS" sz="2600" spc="-1" strike="noStrike">
                <a:solidFill>
                  <a:srgbClr val="b13f9a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b13f9a"/>
                </a:solidFill>
                <a:latin typeface="Trebuchet MS"/>
              </a:rPr>
              <a:t>има</a:t>
            </a:r>
            <a:r>
              <a:rPr b="0" lang="sr-Latn-RS" sz="2600" spc="-1" strike="noStrike">
                <a:solidFill>
                  <a:srgbClr val="b13f9a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b13f9a"/>
                </a:solidFill>
                <a:latin typeface="Trebuchet MS"/>
              </a:rPr>
              <a:t>већу</a:t>
            </a:r>
            <a:r>
              <a:rPr b="0" lang="sr-Latn-RS" sz="2600" spc="-1" strike="noStrike">
                <a:solidFill>
                  <a:srgbClr val="b13f9a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b13f9a"/>
                </a:solidFill>
                <a:latin typeface="Trebuchet MS"/>
              </a:rPr>
              <a:t>специфичну</a:t>
            </a:r>
            <a:r>
              <a:rPr b="0" lang="sr-Latn-RS" sz="2600" spc="-1" strike="noStrike">
                <a:solidFill>
                  <a:srgbClr val="b13f9a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b13f9a"/>
                </a:solidFill>
                <a:latin typeface="Trebuchet MS"/>
              </a:rPr>
              <a:t>тежину</a:t>
            </a:r>
            <a:r>
              <a:rPr b="0" lang="sr-Latn-RS" sz="2600" spc="-1" strike="noStrike">
                <a:solidFill>
                  <a:srgbClr val="b13f9a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b13f9a"/>
                </a:solidFill>
                <a:latin typeface="Trebuchet MS"/>
              </a:rPr>
              <a:t>од</a:t>
            </a:r>
            <a:r>
              <a:rPr b="0" lang="sr-Latn-RS" sz="2600" spc="-1" strike="noStrike">
                <a:solidFill>
                  <a:srgbClr val="b13f9a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b13f9a"/>
                </a:solidFill>
                <a:latin typeface="Trebuchet MS"/>
              </a:rPr>
              <a:t>вербалне</a:t>
            </a:r>
            <a:r>
              <a:rPr b="0" lang="sr-Latn-RS" sz="2600" spc="-1" strike="noStrike">
                <a:solidFill>
                  <a:srgbClr val="b13f9a"/>
                </a:solidFill>
                <a:latin typeface="Trebuchet MS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Title 1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ОКАЖИТЕ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старијој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особи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да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вас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она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занима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да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желите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да је боље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упознате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да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сте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искрени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жељи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да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јој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омогнет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Избегавати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стереотипе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(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стари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људи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су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болесни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ограничених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способности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роценити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сензорне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способности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(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слух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вид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)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рилагодити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се!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роценити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сихосоцијалне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отребе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-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разумети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њихов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оквир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рањивост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страхов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Title 1" descr=""/>
          <p:cNvPicPr/>
          <p:nvPr/>
        </p:nvPicPr>
        <p:blipFill>
          <a:blip r:embed="rId1"/>
          <a:stretch/>
        </p:blipFill>
        <p:spPr>
          <a:xfrm>
            <a:off x="255600" y="-133200"/>
            <a:ext cx="7450200" cy="160164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Проценити способност суочавања са проблемима (из разговора сазнати како су се носили с тешкоћама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Проценити емоционално стањ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Проценити потребу за помоћи (не подстицати зависност од других уколико није нужна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Title 1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оновити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неколико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ута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име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болесника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(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ради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усмеравања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ажње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Користити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кратке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речениц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Издавати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упутства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једно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о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једно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Комуницирајти и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додиром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Одустаните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од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захтева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ако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репознате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фрустрацију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агресију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ри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онављању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исте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риче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усмерити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ажњу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особе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циљ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Title 1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Дозволите</a:t>
            </a: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другој</a:t>
            </a: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особи</a:t>
            </a: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да</a:t>
            </a: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говори</a:t>
            </a: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слушајте</a:t>
            </a: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пажљиво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Научите</a:t>
            </a: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да</a:t>
            </a: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говорите</a:t>
            </a: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о</a:t>
            </a: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стварима</a:t>
            </a: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које</a:t>
            </a: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занимају</a:t>
            </a: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друге</a:t>
            </a: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људе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Будите</a:t>
            </a: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опрезни</a:t>
            </a: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са</a:t>
            </a: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критикама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Пажљиво</a:t>
            </a: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исказујте</a:t>
            </a: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захтеве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Признајте</a:t>
            </a: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своје</a:t>
            </a: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 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грешке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Хвалите</a:t>
            </a: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оно</a:t>
            </a: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што</a:t>
            </a: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вредно</a:t>
            </a: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хвале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b13f9a"/>
                </a:solidFill>
                <a:latin typeface="Trebuchet MS"/>
              </a:rPr>
              <a:t>Покушајте</a:t>
            </a:r>
            <a:r>
              <a:rPr b="1" lang="sr-Latn-CS" sz="2200" spc="-1" strike="noStrike">
                <a:solidFill>
                  <a:srgbClr val="b13f9a"/>
                </a:solidFill>
                <a:latin typeface="Trebuchet MS"/>
              </a:rPr>
              <a:t> </a:t>
            </a:r>
            <a:r>
              <a:rPr b="1" lang="sr-RS" sz="2200" spc="-1" strike="noStrike">
                <a:solidFill>
                  <a:srgbClr val="b13f9a"/>
                </a:solidFill>
                <a:latin typeface="Trebuchet MS"/>
              </a:rPr>
              <a:t>да</a:t>
            </a:r>
            <a:r>
              <a:rPr b="1" lang="sr-Latn-CS" sz="2200" spc="-1" strike="noStrike">
                <a:solidFill>
                  <a:srgbClr val="b13f9a"/>
                </a:solidFill>
                <a:latin typeface="Trebuchet MS"/>
              </a:rPr>
              <a:t> </a:t>
            </a:r>
            <a:r>
              <a:rPr b="1" lang="sr-RS" sz="2200" spc="-1" strike="noStrike">
                <a:solidFill>
                  <a:srgbClr val="b13f9a"/>
                </a:solidFill>
                <a:latin typeface="Trebuchet MS"/>
              </a:rPr>
              <a:t>замислите</a:t>
            </a:r>
            <a:r>
              <a:rPr b="1" lang="sr-Latn-CS" sz="2200" spc="-1" strike="noStrike">
                <a:solidFill>
                  <a:srgbClr val="b13f9a"/>
                </a:solidFill>
                <a:latin typeface="Trebuchet MS"/>
              </a:rPr>
              <a:t> </a:t>
            </a:r>
            <a:r>
              <a:rPr b="1" lang="sr-RS" sz="2200" spc="-1" strike="noStrike">
                <a:solidFill>
                  <a:srgbClr val="b13f9a"/>
                </a:solidFill>
                <a:latin typeface="Trebuchet MS"/>
              </a:rPr>
              <a:t>себе</a:t>
            </a:r>
            <a:r>
              <a:rPr b="1" lang="sr-Latn-CS" sz="2200" spc="-1" strike="noStrike">
                <a:solidFill>
                  <a:srgbClr val="b13f9a"/>
                </a:solidFill>
                <a:latin typeface="Trebuchet MS"/>
              </a:rPr>
              <a:t> </a:t>
            </a:r>
            <a:r>
              <a:rPr b="1" lang="sr-RS" sz="2200" spc="-1" strike="noStrike">
                <a:solidFill>
                  <a:srgbClr val="b13f9a"/>
                </a:solidFill>
                <a:latin typeface="Trebuchet MS"/>
              </a:rPr>
              <a:t>у</a:t>
            </a:r>
            <a:r>
              <a:rPr b="1" lang="sr-Latn-CS" sz="2200" spc="-1" strike="noStrike">
                <a:solidFill>
                  <a:srgbClr val="b13f9a"/>
                </a:solidFill>
                <a:latin typeface="Trebuchet MS"/>
              </a:rPr>
              <a:t> </a:t>
            </a:r>
            <a:r>
              <a:rPr b="1" lang="sr-RS" sz="2200" spc="-1" strike="noStrike">
                <a:solidFill>
                  <a:srgbClr val="b13f9a"/>
                </a:solidFill>
                <a:latin typeface="Trebuchet MS"/>
              </a:rPr>
              <a:t>улози</a:t>
            </a:r>
            <a:r>
              <a:rPr b="1" lang="sr-Latn-CS" sz="2200" spc="-1" strike="noStrike">
                <a:solidFill>
                  <a:srgbClr val="b13f9a"/>
                </a:solidFill>
                <a:latin typeface="Trebuchet MS"/>
              </a:rPr>
              <a:t> </a:t>
            </a:r>
            <a:r>
              <a:rPr b="1" lang="sr-RS" sz="2200" spc="-1" strike="noStrike">
                <a:solidFill>
                  <a:srgbClr val="b13f9a"/>
                </a:solidFill>
                <a:latin typeface="Trebuchet MS"/>
              </a:rPr>
              <a:t>другог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Избегавајте</a:t>
            </a: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свађу</a:t>
            </a: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не</a:t>
            </a: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противречите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Покажите</a:t>
            </a: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добро</a:t>
            </a: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расположење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Title 1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је чула, нарочито чула слуха и вида, слабе старењем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ђутим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ји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а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ћност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ензације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нзорних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така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ем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их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агала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о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очари, слушни апарати и слично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ији се могу прилагодити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њу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етљивост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ног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ла бољом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цијом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их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лих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ја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ем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х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ла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Избег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a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ват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врло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бучн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звук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изненадн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окрет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Увек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иднетификујет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еб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кад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риближават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особ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Рецит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вој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намер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р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него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што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очнет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разговор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Ако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ј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могућ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охрабрит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особу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лабијег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вид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д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нос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наочар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Нек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наочар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буду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чист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диоптриј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роверен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Приближите</a:t>
            </a:r>
            <a:r>
              <a:rPr b="0" lang="sr-Latn-R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се</a:t>
            </a:r>
            <a:r>
              <a:rPr b="0" lang="sr-Latn-R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пацијенту</a:t>
            </a:r>
            <a:r>
              <a:rPr b="0" lang="sr-Latn-R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са</a:t>
            </a:r>
            <a:r>
              <a:rPr b="0" lang="sr-Latn-R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стране лица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Обратите</a:t>
            </a:r>
            <a:r>
              <a:rPr b="0" lang="sr-Latn-R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се</a:t>
            </a:r>
            <a:r>
              <a:rPr b="0" lang="sr-Latn-R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пацијенту</a:t>
            </a:r>
            <a:r>
              <a:rPr b="0" lang="sr-Latn-R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лицем</a:t>
            </a:r>
            <a:r>
              <a:rPr b="0" lang="sr-Latn-R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у</a:t>
            </a:r>
            <a:r>
              <a:rPr b="0" lang="sr-Latn-R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лице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Ословите</a:t>
            </a:r>
            <a:r>
              <a:rPr b="0" lang="sr-Latn-R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пацијента</a:t>
            </a:r>
            <a:r>
              <a:rPr b="0" lang="sr-Latn-R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именом</a:t>
            </a:r>
            <a:r>
              <a:rPr b="0" lang="sr-Latn-R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и</a:t>
            </a:r>
            <a:r>
              <a:rPr b="0" lang="sr-Latn-R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нежно</a:t>
            </a:r>
            <a:r>
              <a:rPr b="0" lang="sr-Latn-R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га</a:t>
            </a:r>
            <a:r>
              <a:rPr b="0" lang="sr-Latn-RS" sz="2200" spc="-1" strike="noStrike">
                <a:solidFill>
                  <a:srgbClr val="000000"/>
                </a:solidFill>
                <a:latin typeface="Trebuchet MS"/>
              </a:rPr>
              <a:t>/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је</a:t>
            </a:r>
            <a:r>
              <a:rPr b="0" lang="sr-Latn-R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додирните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Говорите</a:t>
            </a:r>
            <a:r>
              <a:rPr b="0" lang="sr-Latn-R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спорије</a:t>
            </a:r>
            <a:r>
              <a:rPr b="0" lang="sr-Latn-R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и</a:t>
            </a:r>
            <a:r>
              <a:rPr b="0" lang="sr-Latn-R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што</a:t>
            </a:r>
            <a:r>
              <a:rPr b="0" lang="sr-Latn-R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јасније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Говорите</a:t>
            </a:r>
            <a:r>
              <a:rPr b="0" lang="sr-Latn-R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нижим</a:t>
            </a:r>
            <a:r>
              <a:rPr b="0" lang="sr-Latn-R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гласом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Користите</a:t>
            </a:r>
            <a:r>
              <a:rPr b="0" lang="sr-Latn-R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невербалну</a:t>
            </a:r>
            <a:r>
              <a:rPr b="0" lang="sr-Latn-R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комуникацију</a:t>
            </a:r>
            <a:r>
              <a:rPr b="0" lang="sr-Latn-R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Напишите</a:t>
            </a:r>
            <a:r>
              <a:rPr b="0" lang="sr-Latn-R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нешто</a:t>
            </a:r>
            <a:r>
              <a:rPr b="0" lang="sr-Latn-RS" sz="22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ако</a:t>
            </a:r>
            <a:r>
              <a:rPr b="0" lang="sr-Latn-R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је</a:t>
            </a:r>
            <a:r>
              <a:rPr b="0" lang="sr-Latn-R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то</a:t>
            </a:r>
            <a:r>
              <a:rPr b="0" lang="sr-Latn-R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потребно</a:t>
            </a:r>
            <a:r>
              <a:rPr b="0" lang="sr-Latn-R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Ако</a:t>
            </a:r>
            <a:r>
              <a:rPr b="0" lang="sr-Latn-R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особа</a:t>
            </a:r>
            <a:r>
              <a:rPr b="0" lang="sr-Latn-R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користи</a:t>
            </a:r>
            <a:r>
              <a:rPr b="0" lang="sr-Latn-R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слушни</a:t>
            </a:r>
            <a:r>
              <a:rPr b="0" lang="sr-Latn-R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апарат</a:t>
            </a:r>
            <a:r>
              <a:rPr b="0" lang="sr-Latn-RS" sz="22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охрабрите</a:t>
            </a:r>
            <a:r>
              <a:rPr b="0" lang="sr-Latn-R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да</a:t>
            </a:r>
            <a:r>
              <a:rPr b="0" lang="sr-Latn-R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и</a:t>
            </a:r>
            <a:r>
              <a:rPr b="0" lang="sr-Latn-R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даље</a:t>
            </a:r>
            <a:r>
              <a:rPr b="0" lang="sr-Latn-R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то</a:t>
            </a:r>
            <a:r>
              <a:rPr b="0" lang="sr-Latn-R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користи</a:t>
            </a:r>
            <a:r>
              <a:rPr b="0" lang="sr-Latn-RS" sz="2200" spc="-1" strike="noStrike">
                <a:solidFill>
                  <a:srgbClr val="000000"/>
                </a:solidFill>
                <a:latin typeface="Trebuchet MS"/>
              </a:rPr>
              <a:t>.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Обавезно</a:t>
            </a:r>
            <a:r>
              <a:rPr b="0" lang="sr-Latn-R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проверите</a:t>
            </a:r>
            <a:r>
              <a:rPr b="0" lang="sr-Latn-R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да</a:t>
            </a:r>
            <a:r>
              <a:rPr b="0" lang="sr-Latn-R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ли</a:t>
            </a:r>
            <a:r>
              <a:rPr b="0" lang="sr-Latn-R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је</a:t>
            </a:r>
            <a:r>
              <a:rPr b="0" lang="sr-Latn-R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батерија</a:t>
            </a:r>
            <a:r>
              <a:rPr b="0" lang="sr-Latn-R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апарата</a:t>
            </a:r>
            <a:r>
              <a:rPr b="0" lang="sr-Latn-R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исправна</a:t>
            </a:r>
            <a:r>
              <a:rPr b="0" lang="sr-Latn-RS" sz="22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Тешкоће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у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налажењу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раве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речи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онављање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уобичајених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израза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/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реч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Употреба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нових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речи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да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би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се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описали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уобичајене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и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термин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Лако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губљење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тока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мисл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Тешкоће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у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одржавању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логичности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у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излагању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Све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ређе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комуницирање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све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мање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рич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Све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веће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ослањање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на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гестикулацију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радије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него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на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говор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a34b73"/>
                </a:solidFill>
                <a:latin typeface="Trebuchet MS"/>
              </a:rPr>
              <a:t>Вербална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комуникација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 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 се остварује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 </a:t>
            </a:r>
            <a:r>
              <a:rPr b="0" lang="sr-RS" sz="2600" spc="-1" strike="noStrike">
                <a:solidFill>
                  <a:srgbClr val="a34b73"/>
                </a:solidFill>
                <a:latin typeface="Trebuchet MS"/>
              </a:rPr>
              <a:t>говором и писмом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00ff00"/>
                </a:solidFill>
                <a:latin typeface="Trebuchet MS"/>
              </a:rPr>
              <a:t>Невербална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Trebuchet MS"/>
              </a:rPr>
              <a:t>комуникација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 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е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остварује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ff00"/>
                </a:solidFill>
                <a:latin typeface="Trebuchet MS"/>
              </a:rPr>
              <a:t>невербалним</a:t>
            </a:r>
            <a:r>
              <a:rPr b="0" lang="en-US" sz="2600" spc="-1" strike="noStrike">
                <a:solidFill>
                  <a:srgbClr val="00ff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ff00"/>
                </a:solidFill>
                <a:latin typeface="Trebuchet MS"/>
              </a:rPr>
              <a:t>знаковима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000000"/>
                </a:solidFill>
                <a:latin typeface="Trebuchet MS"/>
              </a:rPr>
              <a:t>Основни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Trebuchet MS"/>
              </a:rPr>
              <a:t>комуникацијски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Trebuchet MS"/>
              </a:rPr>
              <a:t>алат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 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људске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комуникације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је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 </a:t>
            </a:r>
            <a:r>
              <a:rPr b="1" lang="sr-RS" sz="2600" spc="-1" strike="noStrike">
                <a:solidFill>
                  <a:srgbClr val="ffff00"/>
                </a:solidFill>
                <a:latin typeface="Trebuchet MS"/>
              </a:rPr>
              <a:t>језик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Комуникациј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ј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фундамнталн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з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в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људск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рел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a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циј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Title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Trebuchet MS"/>
              </a:rPr>
              <a:t>Током</a:t>
            </a: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Trebuchet MS"/>
              </a:rPr>
              <a:t>почетне</a:t>
            </a: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Trebuchet MS"/>
              </a:rPr>
              <a:t>фазе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оболели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ће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имати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проблема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са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језиком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.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Имаће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потешкоће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да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прати</a:t>
            </a:r>
            <a:r>
              <a:rPr b="0" lang="sr-Latn-R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конверзацију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а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мучиће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се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да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пронађе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и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праву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реч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Оболелом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ће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требати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више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времена</a:t>
            </a:r>
            <a:r>
              <a:rPr b="0" lang="sr-Latn-R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да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размисли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о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ономе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што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сте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му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рекли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и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како би требало да одговори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.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Можда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ће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чак</a:t>
            </a:r>
            <a:r>
              <a:rPr b="0" lang="sr-Latn-R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описивати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оно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што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жели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уместо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да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именује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потребну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ствар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: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на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пример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: „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она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ствар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за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моја</a:t>
            </a:r>
            <a:r>
              <a:rPr b="0" lang="sr-Latn-R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уста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“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уместо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„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четкица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за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зубе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„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Оваква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ситуација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је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фрустрирајућа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за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оболелог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па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је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битно</a:t>
            </a:r>
            <a:r>
              <a:rPr b="0" lang="sr-Latn-R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показати довољно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rebuchet MS"/>
              </a:rPr>
              <a:t>стрпљења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Title 1" descr=""/>
          <p:cNvPicPr/>
          <p:nvPr/>
        </p:nvPicPr>
        <p:blipFill>
          <a:blip r:embed="rId1"/>
          <a:stretch/>
        </p:blipFill>
        <p:spPr>
          <a:xfrm>
            <a:off x="212760" y="165240"/>
            <a:ext cx="7675560" cy="1303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Због заборављања догађаја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из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блиске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прошлост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Због смањена способност концентрациј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Због успореног одговор на стимулусе из околин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Због проблеми са слухом и видом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Због немогућност читања или разумевања уопшт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Title 1" descr=""/>
          <p:cNvPicPr/>
          <p:nvPr/>
        </p:nvPicPr>
        <p:blipFill>
          <a:blip r:embed="rId1"/>
          <a:stretch/>
        </p:blipFill>
        <p:spPr>
          <a:xfrm>
            <a:off x="285840" y="79200"/>
            <a:ext cx="7419960" cy="138924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Потешкоћа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да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пронађе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праву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реч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због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чега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је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њихов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говор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неразумљив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Потешкоћа да организује речи или да логички размишљ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Све чешће ослањање на невербалну гестикулацију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Title 1" descr=""/>
          <p:cNvPicPr/>
          <p:nvPr/>
        </p:nvPicPr>
        <p:blipFill>
          <a:blip r:embed="rId1"/>
          <a:stretch/>
        </p:blipFill>
        <p:spPr>
          <a:xfrm>
            <a:off x="212760" y="165240"/>
            <a:ext cx="7705800" cy="130320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Оболели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не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жели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никоме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да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отежа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ситуацију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већ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отежана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комуникација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резултат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болест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rebuchet MS"/>
              </a:rPr>
              <a:t>„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Реалност</a:t>
            </a:r>
            <a:r>
              <a:rPr b="0" lang="pl-PL" sz="2400" spc="-1" strike="noStrike">
                <a:solidFill>
                  <a:srgbClr val="000000"/>
                </a:solidFill>
                <a:latin typeface="Trebuchet MS"/>
              </a:rPr>
              <a:t>“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оболелог</a:t>
            </a:r>
            <a:r>
              <a:rPr b="0" lang="pl-PL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се</a:t>
            </a:r>
            <a:r>
              <a:rPr b="0" lang="pl-PL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веома</a:t>
            </a:r>
            <a:r>
              <a:rPr b="0" lang="pl-PL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разликује</a:t>
            </a:r>
            <a:r>
              <a:rPr b="0" lang="pl-PL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од</a:t>
            </a:r>
            <a:r>
              <a:rPr b="0" lang="pl-PL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стварне</a:t>
            </a:r>
            <a:r>
              <a:rPr b="0" lang="pl-PL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реалности</a:t>
            </a:r>
            <a:r>
              <a:rPr b="0" lang="pl-PL" sz="2400" spc="-1" strike="noStrike">
                <a:solidFill>
                  <a:srgbClr val="000000"/>
                </a:solidFill>
                <a:latin typeface="Trebuchet MS"/>
              </a:rPr>
              <a:t> –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оболели</a:t>
            </a:r>
            <a:r>
              <a:rPr b="0" lang="pl-PL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од</a:t>
            </a:r>
            <a:r>
              <a:rPr b="0" lang="pl-PL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Алзхеимерове</a:t>
            </a: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болести</a:t>
            </a: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живи</a:t>
            </a: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у</a:t>
            </a: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својој</a:t>
            </a: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истин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окажите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да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слушате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разумете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шта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оболели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окушава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да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вам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каж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Фокусирајте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се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на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осећања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не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на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чињениц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12760" y="165240"/>
            <a:ext cx="7705800" cy="13032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Нагласите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важност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за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оно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што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оболели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може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да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урад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рипремите</a:t>
            </a: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особу</a:t>
            </a: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на</a:t>
            </a: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оно</a:t>
            </a: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што</a:t>
            </a: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ће</a:t>
            </a: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се</a:t>
            </a: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следеће</a:t>
            </a: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догодит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Будите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реални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;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будите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стрпљив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Не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расправљајте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не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критикујте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немојте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исправљати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оболелог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Задржите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смисао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за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хумор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запамтите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да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га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има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особ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оболела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од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Alzheimerove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болест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Title 1" descr=""/>
          <p:cNvPicPr/>
          <p:nvPr/>
        </p:nvPicPr>
        <p:blipFill>
          <a:blip r:embed="rId1"/>
          <a:stretch/>
        </p:blipFill>
        <p:spPr>
          <a:xfrm>
            <a:off x="212760" y="165240"/>
            <a:ext cx="7705800" cy="13032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Уколико понашање не може</a:t>
            </a:r>
            <a:r>
              <a:rPr b="1" lang="it-IT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да</a:t>
            </a:r>
            <a:r>
              <a:rPr b="1" lang="it-IT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нашкоди</a:t>
            </a:r>
            <a:r>
              <a:rPr b="1" lang="it-IT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ни</a:t>
            </a:r>
            <a:r>
              <a:rPr b="1" lang="it-IT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оболелом ни</a:t>
            </a:r>
            <a:r>
              <a:rPr b="1" lang="it-IT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осталима</a:t>
            </a:r>
            <a:r>
              <a:rPr b="1" lang="it-IT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допустите</a:t>
            </a:r>
            <a:r>
              <a:rPr b="1" lang="it-IT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да</a:t>
            </a:r>
            <a:r>
              <a:rPr b="1" lang="it-IT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се </a:t>
            </a:r>
            <a:r>
              <a:rPr b="1" i="1" lang="en-US" sz="2600" spc="-1" strike="noStrike">
                <a:solidFill>
                  <a:srgbClr val="000000"/>
                </a:solidFill>
                <a:latin typeface="Trebuchet MS"/>
              </a:rPr>
              <a:t>спонатано одвиј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Оно што ви кажете и оно што оболели у том тренутку чује најчешће су две различите ствар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13f9a"/>
                </a:solidFill>
                <a:latin typeface="Trebuchet MS"/>
              </a:rPr>
              <a:t>Третирајте оболелог са поштовањем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Користите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једноставне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речи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разумљив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језик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кратке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речениц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b13f9a"/>
                </a:solidFill>
                <a:latin typeface="Trebuchet MS"/>
              </a:rPr>
              <a:t>Не</a:t>
            </a:r>
            <a:r>
              <a:rPr b="1" lang="it-IT" sz="2400" spc="-1" strike="noStrike">
                <a:solidFill>
                  <a:srgbClr val="b13f9a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b13f9a"/>
                </a:solidFill>
                <a:latin typeface="Trebuchet MS"/>
              </a:rPr>
              <a:t>комуницирати</a:t>
            </a:r>
            <a:r>
              <a:rPr b="1" lang="it-IT" sz="2400" spc="-1" strike="noStrike">
                <a:solidFill>
                  <a:srgbClr val="b13f9a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b13f9a"/>
                </a:solidFill>
                <a:latin typeface="Trebuchet MS"/>
              </a:rPr>
              <a:t>као</a:t>
            </a:r>
            <a:r>
              <a:rPr b="1" lang="it-IT" sz="2400" spc="-1" strike="noStrike">
                <a:solidFill>
                  <a:srgbClr val="b13f9a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b13f9a"/>
                </a:solidFill>
                <a:latin typeface="Trebuchet MS"/>
              </a:rPr>
              <a:t>са</a:t>
            </a:r>
            <a:r>
              <a:rPr b="1" lang="it-IT" sz="2400" spc="-1" strike="noStrike">
                <a:solidFill>
                  <a:srgbClr val="b13f9a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b13f9a"/>
                </a:solidFill>
                <a:latin typeface="Trebuchet MS"/>
              </a:rPr>
              <a:t>малим</a:t>
            </a:r>
            <a:r>
              <a:rPr b="1" lang="it-IT" sz="2400" spc="-1" strike="noStrike">
                <a:solidFill>
                  <a:srgbClr val="b13f9a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b13f9a"/>
                </a:solidFill>
                <a:latin typeface="Trebuchet MS"/>
              </a:rPr>
              <a:t>дететом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b13f9a"/>
                </a:solidFill>
                <a:latin typeface="Trebuchet MS"/>
              </a:rPr>
              <a:t>Не</a:t>
            </a:r>
            <a:r>
              <a:rPr b="1" lang="it-IT" sz="2400" spc="-1" strike="noStrike">
                <a:solidFill>
                  <a:srgbClr val="b13f9a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b13f9a"/>
                </a:solidFill>
                <a:latin typeface="Trebuchet MS"/>
              </a:rPr>
              <a:t>односити</a:t>
            </a:r>
            <a:r>
              <a:rPr b="1" lang="it-IT" sz="2400" spc="-1" strike="noStrike">
                <a:solidFill>
                  <a:srgbClr val="b13f9a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b13f9a"/>
                </a:solidFill>
                <a:latin typeface="Trebuchet MS"/>
              </a:rPr>
              <a:t>се</a:t>
            </a:r>
            <a:r>
              <a:rPr b="1" lang="it-IT" sz="2400" spc="-1" strike="noStrike">
                <a:solidFill>
                  <a:srgbClr val="b13f9a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b13f9a"/>
                </a:solidFill>
                <a:latin typeface="Trebuchet MS"/>
              </a:rPr>
              <a:t>према</a:t>
            </a:r>
            <a:r>
              <a:rPr b="1" lang="it-IT" sz="2400" spc="-1" strike="noStrike">
                <a:solidFill>
                  <a:srgbClr val="b13f9a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b13f9a"/>
                </a:solidFill>
                <a:latin typeface="Trebuchet MS"/>
              </a:rPr>
              <a:t>пацијенту</a:t>
            </a:r>
            <a:r>
              <a:rPr b="1" lang="it-IT" sz="2400" spc="-1" strike="noStrike">
                <a:solidFill>
                  <a:srgbClr val="b13f9a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b13f9a"/>
                </a:solidFill>
                <a:latin typeface="Trebuchet MS"/>
              </a:rPr>
              <a:t>као</a:t>
            </a:r>
            <a:r>
              <a:rPr b="1" lang="it-IT" sz="2400" spc="-1" strike="noStrike">
                <a:solidFill>
                  <a:srgbClr val="b13f9a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b13f9a"/>
                </a:solidFill>
                <a:latin typeface="Trebuchet MS"/>
              </a:rPr>
              <a:t>да</a:t>
            </a:r>
            <a:r>
              <a:rPr b="1" lang="it-IT" sz="2400" spc="-1" strike="noStrike">
                <a:solidFill>
                  <a:srgbClr val="b13f9a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b13f9a"/>
                </a:solidFill>
                <a:latin typeface="Trebuchet MS"/>
              </a:rPr>
              <a:t>је</a:t>
            </a:r>
            <a:r>
              <a:rPr b="1" lang="it-IT" sz="2400" spc="-1" strike="noStrike">
                <a:solidFill>
                  <a:srgbClr val="b13f9a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b13f9a"/>
                </a:solidFill>
                <a:latin typeface="Trebuchet MS"/>
              </a:rPr>
              <a:t>ствар</a:t>
            </a:r>
            <a:r>
              <a:rPr b="1" lang="it-IT" sz="2400" spc="-1" strike="noStrike">
                <a:solidFill>
                  <a:srgbClr val="b13f9a"/>
                </a:solidFill>
                <a:latin typeface="Trebuchet MS"/>
              </a:rPr>
              <a:t>, </a:t>
            </a:r>
            <a:r>
              <a:rPr b="1" lang="sr-RS" sz="2400" spc="-1" strike="noStrike">
                <a:solidFill>
                  <a:srgbClr val="b13f9a"/>
                </a:solidFill>
                <a:latin typeface="Trebuchet MS"/>
              </a:rPr>
              <a:t>а</a:t>
            </a:r>
            <a:r>
              <a:rPr b="1" lang="it-IT" sz="2400" spc="-1" strike="noStrike">
                <a:solidFill>
                  <a:srgbClr val="b13f9a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b13f9a"/>
                </a:solidFill>
                <a:latin typeface="Trebuchet MS"/>
              </a:rPr>
              <a:t>не</a:t>
            </a:r>
            <a:r>
              <a:rPr b="1" lang="it-IT" sz="2400" spc="-1" strike="noStrike">
                <a:solidFill>
                  <a:srgbClr val="b13f9a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b13f9a"/>
                </a:solidFill>
                <a:latin typeface="Trebuchet MS"/>
              </a:rPr>
              <a:t>људско</a:t>
            </a:r>
            <a:r>
              <a:rPr b="1" lang="it-IT" sz="2400" spc="-1" strike="noStrike">
                <a:solidFill>
                  <a:srgbClr val="b13f9a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b13f9a"/>
                </a:solidFill>
                <a:latin typeface="Trebuchet MS"/>
              </a:rPr>
              <a:t>бић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Ословљавајте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особу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именом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комуницирајте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тек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када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се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уверите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да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имате</a:t>
            </a:r>
            <a:r>
              <a:rPr b="1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њихову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пажњу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Дајте</a:t>
            </a:r>
            <a:r>
              <a:rPr b="1" lang="pt-BR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им</a:t>
            </a:r>
            <a:r>
              <a:rPr b="1" lang="pt-BR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времена</a:t>
            </a:r>
            <a:r>
              <a:rPr b="1" lang="pt-BR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да</a:t>
            </a:r>
            <a:r>
              <a:rPr b="1" lang="pt-BR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реагују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Не</a:t>
            </a:r>
            <a:r>
              <a:rPr b="1" lang="pl-PL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упадајте</a:t>
            </a:r>
            <a:r>
              <a:rPr b="1" lang="pl-PL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им</a:t>
            </a:r>
            <a:r>
              <a:rPr b="1" lang="pl-PL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у</a:t>
            </a:r>
            <a:r>
              <a:rPr b="1" lang="pl-PL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реч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Trebuchet MS"/>
              </a:rPr>
              <a:t>Ако</a:t>
            </a: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Trebuchet MS"/>
              </a:rPr>
              <a:t>му</a:t>
            </a: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 „</a:t>
            </a:r>
            <a:r>
              <a:rPr b="1" lang="sr-RS" sz="2200" spc="-1" strike="noStrike">
                <a:solidFill>
                  <a:srgbClr val="000000"/>
                </a:solidFill>
                <a:latin typeface="Trebuchet MS"/>
              </a:rPr>
              <a:t>понестане</a:t>
            </a: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“ </a:t>
            </a:r>
            <a:r>
              <a:rPr b="1" lang="sr-RS" sz="2200" spc="-1" strike="noStrike">
                <a:solidFill>
                  <a:srgbClr val="000000"/>
                </a:solidFill>
                <a:latin typeface="Trebuchet MS"/>
              </a:rPr>
              <a:t>речи</a:t>
            </a: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Trebuchet MS"/>
              </a:rPr>
              <a:t>дискретно</a:t>
            </a: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Trebuchet MS"/>
              </a:rPr>
              <a:t>му</a:t>
            </a: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Trebuchet MS"/>
              </a:rPr>
              <a:t>понудите</a:t>
            </a: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Trebuchet MS"/>
              </a:rPr>
              <a:t>решење</a:t>
            </a: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 (</a:t>
            </a:r>
            <a:r>
              <a:rPr b="1" lang="sr-RS" sz="2200" spc="-1" strike="noStrike">
                <a:solidFill>
                  <a:srgbClr val="000000"/>
                </a:solidFill>
                <a:latin typeface="Trebuchet MS"/>
              </a:rPr>
              <a:t>израз</a:t>
            </a: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Trebuchet MS"/>
              </a:rPr>
              <a:t>или</a:t>
            </a: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Trebuchet MS"/>
              </a:rPr>
              <a:t>реч</a:t>
            </a: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Trebuchet MS"/>
              </a:rPr>
              <a:t>Питања</a:t>
            </a: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Trebuchet MS"/>
              </a:rPr>
              <a:t>и</a:t>
            </a: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Trebuchet MS"/>
              </a:rPr>
              <a:t>инструкције</a:t>
            </a: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Trebuchet MS"/>
              </a:rPr>
              <a:t>формулишите</a:t>
            </a: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Trebuchet MS"/>
              </a:rPr>
              <a:t>у</a:t>
            </a: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Trebuchet MS"/>
              </a:rPr>
              <a:t>позитивном</a:t>
            </a: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Trebuchet MS"/>
              </a:rPr>
              <a:t>смислу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Trebuchet MS"/>
              </a:rPr>
              <a:t>Пратите</a:t>
            </a: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Trebuchet MS"/>
              </a:rPr>
              <a:t>нихову</a:t>
            </a: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Trebuchet MS"/>
              </a:rPr>
              <a:t>невербалну</a:t>
            </a: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Trebuchet MS"/>
              </a:rPr>
              <a:t>комуникацију</a:t>
            </a: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1" lang="sr-RS" sz="2200" spc="-1" strike="noStrike">
                <a:solidFill>
                  <a:srgbClr val="000000"/>
                </a:solidFill>
                <a:latin typeface="Trebuchet MS"/>
              </a:rPr>
              <a:t>а</a:t>
            </a: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Trebuchet MS"/>
              </a:rPr>
              <a:t>нарочито</a:t>
            </a: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Trebuchet MS"/>
              </a:rPr>
              <a:t>мимику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Trebuchet MS"/>
              </a:rPr>
              <a:t>Кратко</a:t>
            </a:r>
            <a:r>
              <a:rPr b="1" lang="pl-PL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Trebuchet MS"/>
              </a:rPr>
              <a:t>и</a:t>
            </a:r>
            <a:r>
              <a:rPr b="1" lang="pl-PL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Trebuchet MS"/>
              </a:rPr>
              <a:t>јасно</a:t>
            </a:r>
            <a:r>
              <a:rPr b="1" lang="pl-PL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Trebuchet MS"/>
              </a:rPr>
              <a:t>им</a:t>
            </a:r>
            <a:r>
              <a:rPr b="1" lang="pl-PL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Trebuchet MS"/>
              </a:rPr>
              <a:t>објасните</a:t>
            </a:r>
            <a:r>
              <a:rPr b="1" lang="pl-PL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Trebuchet MS"/>
              </a:rPr>
              <a:t>сваки</a:t>
            </a:r>
            <a:r>
              <a:rPr b="1" lang="pl-PL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Trebuchet MS"/>
              </a:rPr>
              <a:t>поступак</a:t>
            </a:r>
            <a:r>
              <a:rPr b="1" lang="pl-PL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Trebuchet MS"/>
              </a:rPr>
              <a:t>и</a:t>
            </a:r>
            <a:r>
              <a:rPr b="1" lang="pl-PL" sz="2200" spc="-1" strike="noStrike">
                <a:solidFill>
                  <a:srgbClr val="000000"/>
                </a:solidFill>
                <a:latin typeface="Trebuchet MS"/>
              </a:rPr>
              <a:t>/</a:t>
            </a:r>
            <a:r>
              <a:rPr b="1" lang="sr-RS" sz="2200" spc="-1" strike="noStrike">
                <a:solidFill>
                  <a:srgbClr val="000000"/>
                </a:solidFill>
                <a:latin typeface="Trebuchet MS"/>
              </a:rPr>
              <a:t>или</a:t>
            </a:r>
            <a:r>
              <a:rPr b="1" lang="pl-PL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Trebuchet MS"/>
              </a:rPr>
              <a:t>процедуру</a:t>
            </a:r>
            <a:r>
              <a:rPr b="1" lang="pl-PL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Trebuchet MS"/>
              </a:rPr>
              <a:t>пре</a:t>
            </a:r>
            <a:r>
              <a:rPr b="1" lang="pl-PL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Trebuchet MS"/>
              </a:rPr>
              <a:t>него</a:t>
            </a:r>
            <a:r>
              <a:rPr b="1" lang="pl-PL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Trebuchet MS"/>
              </a:rPr>
              <a:t>што</a:t>
            </a:r>
            <a:r>
              <a:rPr b="1" lang="pl-PL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Trebuchet MS"/>
              </a:rPr>
              <a:t>се</a:t>
            </a:r>
            <a:r>
              <a:rPr b="1" lang="pl-PL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Trebuchet MS"/>
              </a:rPr>
              <a:t>приступи</a:t>
            </a: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Trebuchet MS"/>
              </a:rPr>
              <a:t>реализацији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Trebuchet MS"/>
              </a:rPr>
              <a:t>Утврдите</a:t>
            </a:r>
            <a:r>
              <a:rPr b="1" lang="pl-PL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Trebuchet MS"/>
              </a:rPr>
              <a:t>доба</a:t>
            </a:r>
            <a:r>
              <a:rPr b="1" lang="pl-PL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Trebuchet MS"/>
              </a:rPr>
              <a:t>дана</a:t>
            </a:r>
            <a:r>
              <a:rPr b="1" lang="pl-PL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Trebuchet MS"/>
              </a:rPr>
              <a:t>када</a:t>
            </a:r>
            <a:r>
              <a:rPr b="1" lang="pl-PL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Trebuchet MS"/>
              </a:rPr>
              <a:t>су</a:t>
            </a:r>
            <a:r>
              <a:rPr b="1" lang="pl-PL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Trebuchet MS"/>
              </a:rPr>
              <a:t>комуникацијуски</a:t>
            </a:r>
            <a:r>
              <a:rPr b="1" lang="pl-PL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Trebuchet MS"/>
              </a:rPr>
              <a:t>најспособнији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b13f9a"/>
                </a:solidFill>
                <a:latin typeface="Trebuchet MS"/>
              </a:rPr>
              <a:t>Будите</a:t>
            </a:r>
            <a:r>
              <a:rPr b="1" lang="en-US" sz="2200" spc="-1" strike="noStrike">
                <a:solidFill>
                  <a:srgbClr val="b13f9a"/>
                </a:solidFill>
                <a:latin typeface="Trebuchet MS"/>
              </a:rPr>
              <a:t> </a:t>
            </a:r>
            <a:r>
              <a:rPr b="1" lang="sr-RS" sz="2200" spc="-1" strike="noStrike">
                <a:solidFill>
                  <a:srgbClr val="b13f9a"/>
                </a:solidFill>
                <a:latin typeface="Trebuchet MS"/>
              </a:rPr>
              <a:t>емпатични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раживања су показала да је код сваке комуникације само </a:t>
            </a:r>
            <a:r>
              <a:rPr b="1" lang="en-US" sz="2600" spc="-1" strike="noStrike">
                <a:solidFill>
                  <a:srgbClr val="b13f9a"/>
                </a:solidFill>
                <a:latin typeface="Times New Roman"/>
                <a:ea typeface="Times New Roman"/>
              </a:rPr>
              <a:t>7% вербална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уникација, 38% тон и боја гласа, а </a:t>
            </a:r>
            <a:r>
              <a:rPr b="1" lang="pl-PL" sz="2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55%</a:t>
            </a:r>
            <a:r>
              <a:rPr b="0" lang="pl-P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сте</a:t>
            </a:r>
            <a:r>
              <a:rPr b="0" lang="pl-P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невербална</a:t>
            </a:r>
            <a:r>
              <a:rPr b="0" lang="pl-P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уникација</a:t>
            </a:r>
            <a:r>
              <a:rPr b="0" lang="pl-P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имер, за</a:t>
            </a:r>
            <a:r>
              <a:rPr b="0" lang="pl-P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у</a:t>
            </a:r>
            <a:r>
              <a:rPr b="0" lang="pl-P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лелу</a:t>
            </a:r>
            <a:r>
              <a:rPr b="0" lang="pl-P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pl-P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zheimеrovе</a:t>
            </a:r>
            <a:r>
              <a:rPr b="0" lang="pl-P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сти „неизречен језик“ тела као и тон гласа постају много важнији него изговарање самих реч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Шта је сврха комуницирања? Слушати и бити саслушан!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Често не слушамо пажљиво оно што нам се говори и не разјаснимо увек значење оног што чујемо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Уместо тога, убацујемо своје интерпретације и своје схавтање оног што нам је речено, што све може бити врло различито од интенције нашег саговорника.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Поузданост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Активно слушањ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Без просуђивањ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Уважавање разлика у систему вредност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Без претпоставк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Аутентичност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Title 1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‘‘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jor mental illness</a:t>
            </a: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es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’’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-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најчешћ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одразумевамо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schizo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phreniju,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аранодин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оремећај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друг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неорганск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сихозе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афективн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орем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e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ћај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e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д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e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р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e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иј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биполарн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афективн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оремећај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),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анксиозн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оремећај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(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аничн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опсесивно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-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компулзивн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оремећај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агорафобиј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)..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У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сихотичним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оремећајим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остој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значајн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ометањ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комуникациј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- </a:t>
            </a:r>
            <a:r>
              <a:rPr b="1" lang="sr-RS" sz="2600" spc="-1" strike="noStrike">
                <a:solidFill>
                  <a:srgbClr val="000000"/>
                </a:solidFill>
                <a:latin typeface="Trebuchet MS"/>
              </a:rPr>
              <a:t>дезорганизован</a:t>
            </a:r>
            <a:r>
              <a:rPr b="1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Trebuchet MS"/>
              </a:rPr>
              <a:t>говор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дезорганизовано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онашањ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ил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кататон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феномен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х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a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луцин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a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ције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Title 1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Према савременим смерницама, сваки лекар требало да се оспособи током школовања да дијагностикује, лечи, али и разуме потребе пацијената који болују од менталних пормећаја.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Едукација студената вештини комуницирања са особама које болују од менталних пормећаја, значајно ће допринети квалитету третмана ове вулнерабилне популације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Title 1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Циљ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едукације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за бољу комуникацију- повећање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знања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о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овим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болестима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о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савремним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класификационим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системима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клинички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веродостојан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опис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сихијатријских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оремећаја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као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и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реалистична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терапијска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очекивања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Учење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вештини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комуницирања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са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оболелим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од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менталнеог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оремећаја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је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у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својој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суштини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исто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као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и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у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интерној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медицини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на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ример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. </a:t>
            </a:r>
            <a:r>
              <a:rPr b="0" i="1" lang="sr-RS" sz="2400" spc="-1" strike="noStrike">
                <a:solidFill>
                  <a:srgbClr val="b13f9a"/>
                </a:solidFill>
                <a:latin typeface="Trebuchet MS"/>
              </a:rPr>
              <a:t>Али</a:t>
            </a:r>
            <a:r>
              <a:rPr b="0" i="1" lang="sr-Latn-RS" sz="2400" spc="-1" strike="noStrike">
                <a:solidFill>
                  <a:srgbClr val="b13f9a"/>
                </a:solidFill>
                <a:latin typeface="Trebuchet MS"/>
              </a:rPr>
              <a:t>, </a:t>
            </a:r>
            <a:r>
              <a:rPr b="0" i="1" lang="sr-RS" sz="2400" spc="-1" strike="noStrike">
                <a:solidFill>
                  <a:srgbClr val="b13f9a"/>
                </a:solidFill>
                <a:latin typeface="Trebuchet MS"/>
              </a:rPr>
              <a:t>практично</a:t>
            </a:r>
            <a:r>
              <a:rPr b="0" i="1" lang="sr-Latn-RS" sz="2400" spc="-1" strike="noStrike">
                <a:solidFill>
                  <a:srgbClr val="b13f9a"/>
                </a:solidFill>
                <a:latin typeface="Trebuchet MS"/>
              </a:rPr>
              <a:t>, </a:t>
            </a:r>
            <a:r>
              <a:rPr b="0" i="1" lang="sr-RS" sz="2400" spc="-1" strike="noStrike">
                <a:solidFill>
                  <a:srgbClr val="b13f9a"/>
                </a:solidFill>
                <a:latin typeface="Trebuchet MS"/>
              </a:rPr>
              <a:t>то</a:t>
            </a:r>
            <a:r>
              <a:rPr b="0" i="1" lang="sr-Latn-RS" sz="2400" spc="-1" strike="noStrike">
                <a:solidFill>
                  <a:srgbClr val="b13f9a"/>
                </a:solidFill>
                <a:latin typeface="Trebuchet MS"/>
              </a:rPr>
              <a:t> </a:t>
            </a:r>
            <a:r>
              <a:rPr b="0" i="1" lang="sr-RS" sz="2400" spc="-1" strike="noStrike">
                <a:solidFill>
                  <a:srgbClr val="b13f9a"/>
                </a:solidFill>
                <a:latin typeface="Trebuchet MS"/>
              </a:rPr>
              <a:t>је</a:t>
            </a:r>
            <a:r>
              <a:rPr b="0" i="1" lang="sr-Latn-RS" sz="2400" spc="-1" strike="noStrike">
                <a:solidFill>
                  <a:srgbClr val="b13f9a"/>
                </a:solidFill>
                <a:latin typeface="Trebuchet MS"/>
              </a:rPr>
              <a:t> </a:t>
            </a:r>
            <a:r>
              <a:rPr b="0" i="1" lang="sr-RS" sz="2400" spc="-1" strike="noStrike">
                <a:solidFill>
                  <a:srgbClr val="b13f9a"/>
                </a:solidFill>
                <a:latin typeface="Trebuchet MS"/>
              </a:rPr>
              <a:t>мало</a:t>
            </a:r>
            <a:r>
              <a:rPr b="0" i="1" lang="sr-Latn-RS" sz="2400" spc="-1" strike="noStrike">
                <a:solidFill>
                  <a:srgbClr val="b13f9a"/>
                </a:solidFill>
                <a:latin typeface="Trebuchet MS"/>
              </a:rPr>
              <a:t> </a:t>
            </a:r>
            <a:r>
              <a:rPr b="0" i="1" lang="sr-RS" sz="2400" spc="-1" strike="noStrike">
                <a:solidFill>
                  <a:srgbClr val="b13f9a"/>
                </a:solidFill>
                <a:latin typeface="Trebuchet MS"/>
              </a:rPr>
              <a:t>другачије</a:t>
            </a:r>
            <a:r>
              <a:rPr b="0" i="1" lang="sr-Latn-RS" sz="2400" spc="-1" strike="noStrike">
                <a:solidFill>
                  <a:srgbClr val="b13f9a"/>
                </a:solidFill>
                <a:latin typeface="Trebuchet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MEDF</dc:creator>
  <dc:description/>
  <dc:language>en-US</dc:language>
  <cp:lastModifiedBy>Milanče Sin</cp:lastModifiedBy>
  <dcterms:modified xsi:type="dcterms:W3CDTF">2023-02-04T19:48:58Z</dcterms:modified>
  <cp:revision>21</cp:revision>
  <dc:subject/>
  <dc:title>ВЕШТИНА КОМУНИКАЦИЈЕ СА ОСОБАМА СА МЕНТАЛНИМ ПОРЕМЕЋАЈИМА. КОМУНИКАЦИЈА СА ГЕРИЈАТРИЈСКОМ ПОПУЛАЦИЈОМ</dc:title>
</cp:coreProperties>
</file>